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4C3-D018-4CFE-8EE4-186C880E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7EA-DB4F-4BE6-977F-94241DA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E8C-51F7-4654-BB9A-4EBB14A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771-1C60-4AE5-89D7-94DE224C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E030-5C8F-4547-B169-0D3BA78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30F-842C-423E-B71C-E1ECFE2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0658-5E11-4104-BC1D-7BA6CF02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C363-6F8B-49BA-BB7D-A43E194D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751-54CC-465B-BD77-1DEAB3C5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F53-C730-4453-8A90-73EAD6C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CE9E-D8BE-4AE3-AC88-96B8049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778-3AF3-406E-9DE3-9960AAE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620-1CD2-4C4B-8EEF-16070E8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669D-1234-41F0-A30E-A106792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240-4D7C-4D7B-A988-564337D4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FBCD-23E6-4C75-939D-9247AE61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63E-BA49-44B5-A30D-FF1A2FF9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7B7-A07E-4BB6-96C8-4639A2FB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EFE-2BF5-4F2D-A1ED-F3166C63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C40-3EDE-4D96-8CEB-6E5A2892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35A-1EA1-4CC0-8410-A8B5E62F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DE1-5B11-48B9-AEDD-1D81472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535-3D1D-413A-A4A1-9FBBF8E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32D-0A09-4F4F-8175-648229B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4EE-F481-49E9-A53C-F1046A7B73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3F81-16A2-4D9C-B035-F01160011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294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90720"/>
            <a:ext cx="838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ff"/>
                </a:solidFill>
                <a:latin typeface="隶书"/>
                <a:ea typeface="隶书"/>
              </a:rPr>
              <a:t>欢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ff"/>
                </a:solidFill>
                <a:latin typeface="隶书"/>
                <a:ea typeface="隶书"/>
              </a:rPr>
              <a:t>各位家长的到来</a:t>
            </a:r>
            <a:r>
              <a:rPr b="1" lang="zh-CN" sz="7200" spc="-1" strike="noStrike">
                <a:solidFill>
                  <a:srgbClr val="9900ff"/>
                </a:solidFill>
                <a:latin typeface="隶书"/>
                <a:ea typeface="隶书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084640"/>
            <a:ext cx="48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(11)</a:t>
            </a: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班全体师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457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七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57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姓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4572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57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四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            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7524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           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362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3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3            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971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4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5           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5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王亮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4            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6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久钰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2           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876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7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           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562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茜琳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6            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320" y="457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七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57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姓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572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57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四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1430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陈婕妤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5           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828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旭然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4           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2514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孙晨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            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32004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2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郭子周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7           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3886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3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子豪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8           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4956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4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尚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31           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105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5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丝雨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7             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80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以下是七科名次没有进入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名，但三科名次进入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名的学生名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七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62320"/>
            <a:ext cx="15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姓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四科名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0481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9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魏薇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           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3733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8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尹悦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         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4956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6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蒋泽宇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3           15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51814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5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文豪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6          21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609480"/>
            <a:ext cx="83818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以下几位学生应该说也有实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为什么没有考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自己该好好地总结和反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思琦、刘笑语、崔璨、李艺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宋怡然、吴娅楠、李晓萌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李紫东、胡昕梦、王卉、吴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看成绩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371600"/>
            <a:ext cx="152280" cy="281952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0666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查找（相对）优势学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362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查找（相对）薄弱学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6576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查找一般学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找不足，找差距，确定赶超的目标和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533520"/>
            <a:ext cx="739152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语文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2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茜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2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王    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8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孙    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4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丝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晓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53352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数学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久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20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李艺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王    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旭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8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丝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尹    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6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郭子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子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6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魏    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533520"/>
            <a:ext cx="7086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英语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20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王   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9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子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魏   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8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旭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郭子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吴   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笑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609480"/>
            <a:ext cx="716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政治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褚    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9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孙   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4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2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吴    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1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邱天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陈荔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1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久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陈婕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尹    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笑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24280" y="45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历史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1680" y="1752480"/>
          <a:ext cx="4194000" cy="4478400"/>
        </p:xfrm>
        <a:graphic>
          <a:graphicData uri="http://schemas.openxmlformats.org/drawingml/2006/table">
            <a:tbl>
              <a:tblPr/>
              <a:tblGrid>
                <a:gridCol w="2290680"/>
                <a:gridCol w="1903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张馨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岳亿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郝梦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张旭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刘天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陈婕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郭子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648320" y="1825560"/>
          <a:ext cx="4192560" cy="4269600"/>
        </p:xfrm>
        <a:graphic>
          <a:graphicData uri="http://schemas.openxmlformats.org/drawingml/2006/table">
            <a:tbl>
              <a:tblPr/>
              <a:tblGrid>
                <a:gridCol w="2289600"/>
                <a:gridCol w="190296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张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王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岳子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蒋泽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周思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芦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8195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分析班级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676520"/>
            <a:ext cx="381240" cy="3276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13716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8195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44956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9051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8098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不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457200"/>
            <a:ext cx="800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地理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4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3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久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3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    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2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王    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茜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旭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9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53352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生物班级前十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亿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00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张馨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9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天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8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刘久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陈婕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7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郝梦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茜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6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蒋泽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周思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6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梁茜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考试过后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51460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高兴、伤心无动于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3276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514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反思，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3276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190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确定目标，制定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343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324480" y="5105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343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落实到行动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762120"/>
            <a:ext cx="8686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优生要戒骄戒躁，给予适当压力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后进生要端正态度，家长和老师要紧密配合，防止掉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中等生要多鼓励，挖掘潜力，期待黑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53352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但愿能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1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班        打造成一个强班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362320"/>
            <a:ext cx="79246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需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学生、家长、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共同努力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53352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部分同学自我管理能力较差，有几个同学上课、自习课上过于活跃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纪律观念淡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9760" y="2438280"/>
            <a:ext cx="814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个别同学学习习惯不够好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不能利用有效时间按时完成作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611520"/>
            <a:ext cx="79167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部分同学不重视听，读，背诵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默写的作业，导致常常要重新听写，重新默写，文科成绩总上不去；不重视史、地、生、政四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6094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缺乏吃苦和坚持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些学生缺少责任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057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些学生不尊重他人，荣辱观念淡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2767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些学生上网成瘾，缺少监督和管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956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些学生时间观念淡薄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保洁意识不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609480"/>
            <a:ext cx="8001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现阶段的学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纪律观念不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是非意识不强；近朱者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近墨者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主动意识不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需要紧盯，需要盯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家长与老师联系的不够！（家校通，打电话，到校交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家长太过于袒护自己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2670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家长对自己的孩子过于放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家长对老师的期望值过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129528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班主任、数学 张老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:822179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语文 宋老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:821264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英语 孙老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:821281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572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电话号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648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建议：每两周联系一次，有话则长，无话则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分析成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00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这次期中考试考了七门科目，总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76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分，我班最高分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7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657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成绩分析有法可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5720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三科、四科成绩看学生实力；七课成绩看学生学习态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9907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考试前的复习科目没有主次之分，换句话说，所有的科目都是主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6576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总分              中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648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态度决定一切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4:24Z</dcterms:modified>
  <cp:revision>1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